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4E0E-11DE-46B8-BB0C-C2E58F64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09A-0DBF-4916-90FB-2438B380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ED05E-9C47-458F-95E8-3F42D755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6BB31-90FA-4748-ADEC-DFA1B188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17DD0-DE0E-4520-8C38-F3FCD091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EB292-86BE-4235-BA09-F02F646A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DB834-ECBD-4D70-8F9C-07C6FF57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6DCAB-B789-400F-9768-682123F4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94F88-9FB8-4C1C-9BC5-89D66CB7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CDF3A-7BC2-4425-AC69-9E7B0109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700CC-D561-4C1F-8D07-1B65860D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D8324-1FFA-426C-91FF-58202E0E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0D0-A9BB-419D-B7EA-028B0C55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D5664-98F4-4424-BEFC-49BC7610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C7C2A-A68D-47BD-A49C-507625E2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32292-3B28-4EBB-9822-C7CBF52D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80B1F-B929-4569-B2D2-6AF70D8D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25D5A-0F15-4746-AEBD-4F6959DE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7536E-9691-4E23-A3F0-F5FB31D8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EDE25-DC28-4FCF-83A9-A43C573A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14488-A39E-41E4-91B9-CC1C4E34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A66D5-9A8C-4D22-84F4-DE4B63DE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A3731-5560-43A9-B339-EF9EA49B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0FA-044F-414A-B6B0-C286440A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030B9-E0E1-4D67-A8B8-FA5E1F18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E73E8-7FA5-4C8C-824E-6C8CBAC2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06D98-B645-40CE-BF66-C78B95AA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917AC-0586-4031-B15E-6D5DE58F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9A240-8E13-4525-B7DE-D8C7AB6B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57230-FA94-4C5D-AEC4-4F5F8AA3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84D18-07BF-4471-9850-FDE4489A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73E25-E755-4EC7-B68E-978AA0E0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8CD17-763A-4AFC-9004-F4AA8D71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7BE2B-84DD-4FE9-B171-1D4E474A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0059-44A7-4007-991C-4C1A36B3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43F89-C34B-475F-B411-D46EB840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E7093-F68A-4DA5-8A76-3FE6B5BF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4B237-74F1-42D2-9253-0886B7A5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87A5A-BDD6-4B54-92BD-88663B5C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0829A-1927-485D-AD1A-A31002A4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94B99-9E4F-4E00-AE75-503878AD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30777-F143-41D1-BEEB-CE35EBDE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746B8-DA2F-4093-AB0D-4C1DBC0D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D97E7-4324-4225-83C8-2DCFFDA6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AE7E9-D69F-457F-8F22-84F79A40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0875-38F7-4186-B422-0BF2EA79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BA791-CB2D-43E9-A82C-09B54FEF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2D19E-C5EE-49BD-AC4D-E39301CC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AFFB9-5DB2-4B5C-91FB-1D314F44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06834-DA0C-4EA7-A1F5-EF306828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5AD5D-4610-4A9E-A19F-23E9723F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DFEF-30AC-4B54-9D6C-17A8EF28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AAFB-987D-41B9-9A65-2211E5DD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0FA3-B409-4698-93F2-ECB4331E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157F-3417-4A66-85D1-30E2DCDF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37BD-CB07-44C0-B117-06E9EFFF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1AF8-0701-48EF-9F48-23F8D804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D67C-23A2-4C62-BB7E-FB90E419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1123-34ED-4C93-83D1-C182EE3E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6C31-D48E-4A28-A6A5-809F5F94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7F06-714A-4F53-89DE-52E6EC60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1B3F-2AE4-4BD6-91D9-D5B048D8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A88F4-75FE-48EC-A972-F0792FE5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ECEB4-92B2-4D45-B733-1F4B7278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48EEB-A072-4989-AA3E-25594C6E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EB1E4-9E80-4B9C-8B7E-44BB03DC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9B87E-DFFE-4321-952A-94E3591D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8B7-75F0-4D80-A817-6E7FD66D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0FC08-55C5-422D-8F96-F2E858BA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5288A-FB79-4607-B73C-978EF8AC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3826D-930A-493A-A73E-835B8F79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BE29C-ACFE-4B00-9598-6F07440E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D7534-0F44-456B-B408-BAFD4F18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FF03E-CE3D-42BF-A2DD-DB556770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71B78-94C6-4AF7-B37F-77FACBAD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B85D6-AF73-48F9-9D75-E6E49A25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FF732-5DE9-4E52-8780-D4696FCD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6E47E-FF63-47CC-9F70-9244DC36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FB4C-CED6-4A37-8849-FC2B2069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8BBCB-6D87-4D4C-B540-F24C7A78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DADAF-D1FD-4D0A-9226-8171C95C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6CFFD-ECA9-4784-9528-D6639052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BE322-8D1E-47C2-A58C-6BDCEC55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B7F61-49EE-46BD-85D4-1DA12FFC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3804B-092B-4A22-9A1D-FEF13C8A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FD6B5-6EE6-45A7-AEE5-1AF27F54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0D9A1-0DED-4C41-8F5D-5838CFB3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B33F8-8CB4-47E7-BF82-DE637544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B3C96-0CE9-4A90-AC33-A8AFDDB0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88A-A473-47A6-AD47-1D211030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4A34F-5E17-4849-AD2A-157625B6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86B5A-2559-4198-8EA0-7958062E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079EF-87B5-4C72-9CC5-A3986B17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E2479-94EA-41C9-B9BA-123533DF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C03C6-0B7C-4BE7-8249-629CDABA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D6192-3769-4094-AAA6-1BA93B55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D8335-0F30-4E9D-B407-E8B5F163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255CA-8CEA-451E-8AF8-D7E0259D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A1233-F5D7-4000-94FF-95317771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69CD6-DC0A-4807-914F-16B2A0F9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ED2-1F8D-4C41-B297-29CF2B01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7AC88-F34F-44A3-9794-479E79D9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286DB-2202-4E70-A78E-AA8DDBAD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A0728-8024-41AC-B480-D0B4EFAA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7B151-E2C5-4D67-BD44-73973EDF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07139-13E1-48A6-813B-D970C882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9A04D-E88E-459D-8EDA-5ED16258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AD809-34C6-477F-83B1-AF923851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8296E-B8E7-4967-8DB6-B110E359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5D204-762A-4FAD-A896-E55FB6F1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EB4AC-EC2A-40C3-AA73-3B716EBA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CDB-0FFB-4114-955A-11657898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2602C-0BCA-4030-88B4-BFDB0003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0709E-F08F-4CC5-8A4F-00C93734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66E67-3578-4364-9AE2-FEE896ED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F72BA-A4A5-4016-80AD-12872EE3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1A509-BE6C-4417-9CF6-FAD63449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AE66C-7F14-4CC1-9608-31EFF82B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BF0D0-46F6-4237-AB3F-F65AE3D7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3A083-6754-4F68-AE47-E13105EF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A183A-2A57-42F1-9050-57B2F65C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FF4CE-CAB4-45FB-9666-9AAC3994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BC5-C6B2-415F-AA30-5008A52F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AFA91-4EBF-4F83-99FE-3C4972E5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E5C6D-AA6D-4F53-96C7-A2FE1659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58A73-BBB0-41BA-B951-CA71C337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856FE-3D12-4203-8565-951267DF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4898F-ED66-4CC3-ABE5-E8E689E5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8D784-6DFC-41E7-A6F0-108221BF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7FF79-E14F-4CD1-A5B4-0737FDB5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59B51-EF9D-4C6F-862D-D6422047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B2D5C-FB8F-4A60-BDE0-882F0458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71F36-6816-4EC0-B469-63B19049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8A8-45B7-4667-AB9F-6ADC6FAD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0312E-2EE9-4978-9D8A-28BCE556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74244-CE7F-4D68-92EE-9D3A1F6B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651DF-3932-4C57-B7AC-E4724ABB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28E40-D47D-4C57-A8B1-C0620DA5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DB999-F35D-4F9F-877C-9E22B4B9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46E2A-8E02-431E-89C9-CD52DAF5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679E6-AE7A-40D5-A61A-2679B60C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C4242-8630-41A3-9603-9B564247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8E316-2576-42CA-B7AB-AA132D98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00B62-D639-457F-9F93-12E4F0F2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EA2B-1024-4182-90F0-C7BFC1513DA9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7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A64F-0503-4757-808D-89EB080D9006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5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3A02-2FEC-436C-80AA-3A830FB246F6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280E-5F11-4E95-A19D-9E0CFD3A4EA7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BA15-B322-4BD3-92D3-5D786F8FC92B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C802-D62A-4F3D-A57F-F3F5B1DE0DD2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912F-A69E-4ABD-882F-48C1E6BCC9CF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6584-2182-4E2E-8CA9-29FCCAD18B0A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F7DC-0963-4761-9FBC-9C62D244B3DA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9288-5A1A-41B9-B9E3-2E720D50899F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FF14-E779-45EF-AF04-88AF641263A4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511E-3800-43FD-B900-159822A8C73D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pl/url?sa=i&amp;rct=j&amp;q=&amp;esrc=s&amp;frm=1&amp;source=images&amp;cd=&amp;cad=rja&amp;docid=x3O5PxcZ9wWfUM&amp;tbnid=JHO74gw_xqNUDM:&amp;ved=0CAUQjRw&amp;url=http%3A%2F%2Fwww.cauchy.pl%2Fmatura%2Fp_2006_11_p%2F5%2Findex.php&amp;ei=-qCaUcP2JcfnswbJ84GoBg&amp;bvm=bv.46751780,d.Yms&amp;psig=AFQjCNFssyByw83TLltqo_bdrGcZk9xnLA&amp;ust=1369174614896921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4055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Symetrie w układzie współrzędny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rostokąt 4"/>
          <p:cNvSpPr/>
          <p:nvPr/>
        </p:nvSpPr>
        <p:spPr>
          <a:xfrm>
            <a:off x="1187280" y="404640"/>
            <a:ext cx="756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Uwag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Punkty symetryczne względem osi y mają równe drugie współrzędne, a pierwsze współrzędne są liczbami przeciwnymi, 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i P’=(-x,y)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Jeżeli punkt leży na osi y, to punktem symetrycznym do niego względem osi y jest ten sam pun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74581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względem początku układu współrzędny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7" name="Prostokąt 2"/>
          <p:cNvSpPr/>
          <p:nvPr/>
        </p:nvSpPr>
        <p:spPr>
          <a:xfrm>
            <a:off x="1042920" y="3213000"/>
            <a:ext cx="7561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ill Sans MT"/>
              </a:rPr>
              <a:t>Zadanie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początku układu współrzędny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7" descr="http://www.cauchy.pl/matura/p_2006_11_p/5/uklad_wspolrzednych.gif"/>
          <p:cNvPicPr/>
          <p:nvPr/>
        </p:nvPicPr>
        <p:blipFill>
          <a:blip r:embed="rId1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629" name="Elipsa 24"/>
          <p:cNvSpPr/>
          <p:nvPr/>
        </p:nvSpPr>
        <p:spPr>
          <a:xfrm>
            <a:off x="4454640" y="1052640"/>
            <a:ext cx="460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Elipsa 25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Elipsa 26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27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Elipsa 28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Elipsa 29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Łącznik prosty 30"/>
          <p:cNvSpPr/>
          <p:nvPr/>
        </p:nvSpPr>
        <p:spPr>
          <a:xfrm>
            <a:off x="4211640" y="1089000"/>
            <a:ext cx="550800" cy="2664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Elipsa 31"/>
          <p:cNvSpPr/>
          <p:nvPr/>
        </p:nvSpPr>
        <p:spPr>
          <a:xfrm>
            <a:off x="471636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Łącznik prosty 32"/>
          <p:cNvSpPr/>
          <p:nvPr/>
        </p:nvSpPr>
        <p:spPr>
          <a:xfrm flipH="1">
            <a:off x="3924000" y="1628640"/>
            <a:ext cx="1103400" cy="1513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Elipsa 33"/>
          <p:cNvSpPr/>
          <p:nvPr/>
        </p:nvSpPr>
        <p:spPr>
          <a:xfrm>
            <a:off x="3924360" y="314172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Łącznik prosty 34"/>
          <p:cNvSpPr/>
          <p:nvPr/>
        </p:nvSpPr>
        <p:spPr>
          <a:xfrm flipH="1" flipV="1">
            <a:off x="3459240" y="1884240"/>
            <a:ext cx="2031840" cy="1044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Elipsa 35"/>
          <p:cNvSpPr/>
          <p:nvPr/>
        </p:nvSpPr>
        <p:spPr>
          <a:xfrm>
            <a:off x="3419640" y="1844640"/>
            <a:ext cx="4572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Łącznik prosty 36"/>
          <p:cNvSpPr/>
          <p:nvPr/>
        </p:nvSpPr>
        <p:spPr>
          <a:xfrm flipV="1">
            <a:off x="3708360" y="1341000"/>
            <a:ext cx="1584360" cy="2158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Elipsa 37"/>
          <p:cNvSpPr/>
          <p:nvPr/>
        </p:nvSpPr>
        <p:spPr>
          <a:xfrm>
            <a:off x="5292720" y="1268280"/>
            <a:ext cx="442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Elipsa 38"/>
          <p:cNvSpPr/>
          <p:nvPr/>
        </p:nvSpPr>
        <p:spPr>
          <a:xfrm flipH="1">
            <a:off x="2916360" y="234936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Łącznik prosty 39"/>
          <p:cNvSpPr/>
          <p:nvPr/>
        </p:nvSpPr>
        <p:spPr>
          <a:xfrm flipH="1">
            <a:off x="2987280" y="2421000"/>
            <a:ext cx="3073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ole tekstowe 40"/>
          <p:cNvSpPr/>
          <p:nvPr/>
        </p:nvSpPr>
        <p:spPr>
          <a:xfrm>
            <a:off x="541800" y="4437000"/>
            <a:ext cx="759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początku układu współrzęd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ą punkty: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Łącznik prosty 55"/>
          <p:cNvSpPr/>
          <p:nvPr/>
        </p:nvSpPr>
        <p:spPr>
          <a:xfrm flipH="1" flipV="1">
            <a:off x="4460400" y="1091880"/>
            <a:ext cx="39960" cy="26240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Elipsa 59"/>
          <p:cNvSpPr/>
          <p:nvPr/>
        </p:nvSpPr>
        <p:spPr>
          <a:xfrm>
            <a:off x="4454640" y="371628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rostokąt 63" descr=""/>
          <p:cNvPicPr/>
          <p:nvPr/>
        </p:nvPicPr>
        <p:blipFill>
          <a:blip r:embed="rId2"/>
          <a:stretch/>
        </p:blipFill>
        <p:spPr>
          <a:xfrm>
            <a:off x="2249640" y="4979880"/>
            <a:ext cx="4627440" cy="20671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1"/>
          <p:cNvSpPr/>
          <p:nvPr/>
        </p:nvSpPr>
        <p:spPr>
          <a:xfrm>
            <a:off x="999720" y="356400"/>
            <a:ext cx="73267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Uwag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Współrzędne punktów symetrycznych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względem początku układu współrzędnych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są liczbami przeciwnymi, 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   i     P’=(-x,-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72314"/>
                </a:solidFill>
                <a:latin typeface="Gill Sans MT"/>
              </a:rPr>
              <a:t>Pomysły zadań i ćwiczeń zostały zaczerpnięte z: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Prostokąt 2"/>
          <p:cNvSpPr/>
          <p:nvPr/>
        </p:nvSpPr>
        <p:spPr>
          <a:xfrm>
            <a:off x="1042920" y="1628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matematyka.opracowania.pl/gimnazjum/symetrie_w_uk%C5%82adzie_wsp%C3%B3%C5%82rz%C4%99dnyc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rostokąt 3"/>
          <p:cNvSpPr/>
          <p:nvPr/>
        </p:nvSpPr>
        <p:spPr>
          <a:xfrm>
            <a:off x="1042920" y="2276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matmana6.pl/tablice_matematyczne/liceum/geometria_analityczna/62-uklad_wspolrze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rostokąt 4"/>
          <p:cNvSpPr/>
          <p:nvPr/>
        </p:nvSpPr>
        <p:spPr>
          <a:xfrm>
            <a:off x="1024200" y="2997360"/>
            <a:ext cx="45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math.edu.pl/uklad-kartezjan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rostokąt 5"/>
          <p:cNvSpPr/>
          <p:nvPr/>
        </p:nvSpPr>
        <p:spPr>
          <a:xfrm>
            <a:off x="1008000" y="335772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iki.wolnepodreczniki.pl/Matematyka:Gimnazjum/Kartezja%C5%84ski_uk%C5%82ad_wsp%C3%B3%C5%82rz%C4%99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572314"/>
                </a:solidFill>
                <a:latin typeface="Gill Sans MT"/>
              </a:rPr>
              <a:t>Prostokątny układ współrzędnych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0" name="pole tekstowe 9"/>
          <p:cNvSpPr/>
          <p:nvPr/>
        </p:nvSpPr>
        <p:spPr>
          <a:xfrm>
            <a:off x="1042920" y="364644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Ćwiczeni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Określ położenie Multik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ole tekstowe 10"/>
          <p:cNvSpPr/>
          <p:nvPr/>
        </p:nvSpPr>
        <p:spPr>
          <a:xfrm>
            <a:off x="1042920" y="14130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 czego służ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układ współrzędny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" descr="C:\Users\temp\Desktop\PPWK_Wloclawek_A4.jpg"/>
          <p:cNvPicPr/>
          <p:nvPr/>
        </p:nvPicPr>
        <p:blipFill>
          <a:blip r:embed="rId1"/>
          <a:stretch/>
        </p:blipFill>
        <p:spPr>
          <a:xfrm>
            <a:off x="4427640" y="1284120"/>
            <a:ext cx="4427280" cy="5384880"/>
          </a:xfrm>
          <a:prstGeom prst="rect">
            <a:avLst/>
          </a:prstGeom>
          <a:ln w="0">
            <a:noFill/>
          </a:ln>
        </p:spPr>
      </p:pic>
      <p:sp>
        <p:nvSpPr>
          <p:cNvPr id="563" name="pole tekstowe 5"/>
          <p:cNvSpPr/>
          <p:nvPr/>
        </p:nvSpPr>
        <p:spPr>
          <a:xfrm>
            <a:off x="1698480" y="551664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Odpowied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3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ole tekstowe 8"/>
          <p:cNvSpPr/>
          <p:nvPr/>
        </p:nvSpPr>
        <p:spPr>
          <a:xfrm>
            <a:off x="890280" y="2567160"/>
            <a:ext cx="30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zykł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Tesco leży w kwadracie 2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rostokąt 2"/>
          <p:cNvSpPr/>
          <p:nvPr/>
        </p:nvSpPr>
        <p:spPr>
          <a:xfrm>
            <a:off x="1042920" y="260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 określenia położenia punktu na płaszczyźnie używamy prostokątnego układu współrzęd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9"/>
          <p:cNvSpPr/>
          <p:nvPr/>
        </p:nvSpPr>
        <p:spPr>
          <a:xfrm>
            <a:off x="1042920" y="98100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ostokątny układ współrzędnych tworzą dwie prostopadłe osie liczbowe, które dzielą płaszczyznę na cztery ćwiartki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 przecięcia się osi nazywamy początkiem układu współrzę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7" descr=""/>
          <p:cNvPicPr/>
          <p:nvPr/>
        </p:nvPicPr>
        <p:blipFill>
          <a:blip r:embed="rId4"/>
          <a:stretch/>
        </p:blipFill>
        <p:spPr>
          <a:xfrm>
            <a:off x="3852720" y="981000"/>
            <a:ext cx="4748400" cy="440856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8"/>
          <p:cNvSpPr/>
          <p:nvPr/>
        </p:nvSpPr>
        <p:spPr>
          <a:xfrm>
            <a:off x="1150920" y="5292000"/>
            <a:ext cx="77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ierwszą liczbą  jest  współrzędna x, którą odczytujemy na osi poziomej x (oś odciętyc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rugą liczbą jest współrzędna y, którą odczytujemy na osi pionowej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(oś rzędnych)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rostokąt 13"/>
          <p:cNvSpPr/>
          <p:nvPr/>
        </p:nvSpPr>
        <p:spPr>
          <a:xfrm>
            <a:off x="1042920" y="3751200"/>
            <a:ext cx="28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ołożenie punktu w układzie współrzędnych określamy za pomocą współrzęd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i="1" lang="pl-PL" sz="1800" spc="-1" strike="noStrike">
                <a:solidFill>
                  <a:srgbClr val="000000"/>
                </a:solidFill>
                <a:latin typeface="Gill Sans MT"/>
              </a:rPr>
              <a:t>P=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http://www.matmana6.pl/zdjecia/szkola_srednia/geometria_analityczna/uklad_wspolrzednych_6.png"/>
          <p:cNvPicPr/>
          <p:nvPr/>
        </p:nvPicPr>
        <p:blipFill>
          <a:blip r:embed="rId1"/>
          <a:stretch/>
        </p:blipFill>
        <p:spPr>
          <a:xfrm>
            <a:off x="2914560" y="262080"/>
            <a:ext cx="3962520" cy="3273120"/>
          </a:xfrm>
          <a:prstGeom prst="rect">
            <a:avLst/>
          </a:prstGeom>
          <a:ln w="0">
            <a:noFill/>
          </a:ln>
        </p:spPr>
      </p:pic>
      <p:sp>
        <p:nvSpPr>
          <p:cNvPr id="571" name="Prostokąt 4"/>
          <p:cNvSpPr/>
          <p:nvPr/>
        </p:nvSpPr>
        <p:spPr>
          <a:xfrm>
            <a:off x="1042920" y="3645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pasuj do punktów ich współrzę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B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5"/>
          <p:cNvSpPr/>
          <p:nvPr/>
        </p:nvSpPr>
        <p:spPr>
          <a:xfrm>
            <a:off x="992520" y="189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Ćwiczeni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Grupa 5" descr=""/>
          <p:cNvPicPr/>
          <p:nvPr/>
        </p:nvPicPr>
        <p:blipFill>
          <a:blip r:embed="rId2"/>
          <a:stretch/>
        </p:blipFill>
        <p:spPr>
          <a:xfrm>
            <a:off x="184140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4" name="Grupa 8" descr=""/>
          <p:cNvPicPr/>
          <p:nvPr/>
        </p:nvPicPr>
        <p:blipFill>
          <a:blip r:embed="rId3"/>
          <a:stretch/>
        </p:blipFill>
        <p:spPr>
          <a:xfrm>
            <a:off x="1841400" y="4870440"/>
            <a:ext cx="1670040" cy="811080"/>
          </a:xfrm>
          <a:prstGeom prst="rect">
            <a:avLst/>
          </a:prstGeom>
          <a:ln w="0">
            <a:noFill/>
          </a:ln>
        </p:spPr>
      </p:pic>
      <p:pic>
        <p:nvPicPr>
          <p:cNvPr id="575" name="Grupa 14" descr=""/>
          <p:cNvPicPr/>
          <p:nvPr/>
        </p:nvPicPr>
        <p:blipFill>
          <a:blip r:embed="rId4"/>
          <a:stretch/>
        </p:blipFill>
        <p:spPr>
          <a:xfrm>
            <a:off x="1841400" y="421812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6" name="Grupa 17" descr=""/>
          <p:cNvPicPr/>
          <p:nvPr/>
        </p:nvPicPr>
        <p:blipFill>
          <a:blip r:embed="rId5"/>
          <a:stretch/>
        </p:blipFill>
        <p:spPr>
          <a:xfrm>
            <a:off x="426708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7" name="Grupa 20" descr=""/>
          <p:cNvPicPr/>
          <p:nvPr/>
        </p:nvPicPr>
        <p:blipFill>
          <a:blip r:embed="rId6"/>
          <a:stretch/>
        </p:blipFill>
        <p:spPr>
          <a:xfrm>
            <a:off x="4290840" y="4870440"/>
            <a:ext cx="1665360" cy="811080"/>
          </a:xfrm>
          <a:prstGeom prst="rect">
            <a:avLst/>
          </a:prstGeom>
          <a:ln w="0">
            <a:noFill/>
          </a:ln>
        </p:spPr>
      </p:pic>
      <p:pic>
        <p:nvPicPr>
          <p:cNvPr id="578" name="Grupa 23" descr=""/>
          <p:cNvPicPr/>
          <p:nvPr/>
        </p:nvPicPr>
        <p:blipFill>
          <a:blip r:embed="rId7"/>
          <a:stretch/>
        </p:blipFill>
        <p:spPr>
          <a:xfrm>
            <a:off x="4290840" y="4218120"/>
            <a:ext cx="1665360" cy="817560"/>
          </a:xfrm>
          <a:prstGeom prst="rect">
            <a:avLst/>
          </a:prstGeom>
          <a:ln w="0">
            <a:noFill/>
          </a:ln>
        </p:spPr>
      </p:pic>
      <p:pic>
        <p:nvPicPr>
          <p:cNvPr id="579" name="Grupa 26" descr=""/>
          <p:cNvPicPr/>
          <p:nvPr/>
        </p:nvPicPr>
        <p:blipFill>
          <a:blip r:embed="rId8"/>
          <a:stretch/>
        </p:blipFill>
        <p:spPr>
          <a:xfrm>
            <a:off x="666288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80" name="Grupa 29" descr=""/>
          <p:cNvPicPr/>
          <p:nvPr/>
        </p:nvPicPr>
        <p:blipFill>
          <a:blip r:embed="rId9"/>
          <a:stretch/>
        </p:blipFill>
        <p:spPr>
          <a:xfrm>
            <a:off x="6662880" y="4870440"/>
            <a:ext cx="1670040" cy="811080"/>
          </a:xfrm>
          <a:prstGeom prst="rect">
            <a:avLst/>
          </a:prstGeom>
          <a:ln w="0">
            <a:noFill/>
          </a:ln>
        </p:spPr>
      </p:pic>
      <p:pic>
        <p:nvPicPr>
          <p:cNvPr id="581" name="Grupa 32" descr=""/>
          <p:cNvPicPr/>
          <p:nvPr/>
        </p:nvPicPr>
        <p:blipFill>
          <a:blip r:embed="rId10"/>
          <a:stretch/>
        </p:blipFill>
        <p:spPr>
          <a:xfrm>
            <a:off x="6662880" y="4218120"/>
            <a:ext cx="1670040" cy="817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rostokąt 6"/>
          <p:cNvSpPr/>
          <p:nvPr/>
        </p:nvSpPr>
        <p:spPr>
          <a:xfrm>
            <a:off x="1041480" y="2622600"/>
            <a:ext cx="763416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ill Sans MT"/>
              </a:rPr>
              <a:t>Zadanie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osi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względem osi x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7" descr="http://www.cauchy.pl/matura/p_2006_11_p/5/uklad_wspolrzednych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pic>
        <p:nvPicPr>
          <p:cNvPr id="585" name="Prostokąt 7" descr=""/>
          <p:cNvPicPr/>
          <p:nvPr/>
        </p:nvPicPr>
        <p:blipFill>
          <a:blip r:embed="rId3"/>
          <a:stretch/>
        </p:blipFill>
        <p:spPr>
          <a:xfrm>
            <a:off x="2828880" y="4748040"/>
            <a:ext cx="4619520" cy="2067120"/>
          </a:xfrm>
          <a:prstGeom prst="rect">
            <a:avLst/>
          </a:prstGeom>
          <a:ln w="0">
            <a:noFill/>
          </a:ln>
        </p:spPr>
      </p:pic>
      <p:sp>
        <p:nvSpPr>
          <p:cNvPr id="586" name="Elipsa 10"/>
          <p:cNvSpPr/>
          <p:nvPr/>
        </p:nvSpPr>
        <p:spPr>
          <a:xfrm>
            <a:off x="4454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lipsa 11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Elipsa 12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Elipsa 13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Elipsa 14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lipsa 15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Łącznik prosty 17"/>
          <p:cNvSpPr/>
          <p:nvPr/>
        </p:nvSpPr>
        <p:spPr>
          <a:xfrm>
            <a:off x="4492800" y="1114560"/>
            <a:ext cx="7920" cy="2601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Elipsa 18"/>
          <p:cNvSpPr/>
          <p:nvPr/>
        </p:nvSpPr>
        <p:spPr>
          <a:xfrm>
            <a:off x="445464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Łącznik prosty 20"/>
          <p:cNvSpPr/>
          <p:nvPr/>
        </p:nvSpPr>
        <p:spPr>
          <a:xfrm flipH="1">
            <a:off x="4211640" y="1063800"/>
            <a:ext cx="6480" cy="26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Elipsa 21"/>
          <p:cNvSpPr/>
          <p:nvPr/>
        </p:nvSpPr>
        <p:spPr>
          <a:xfrm>
            <a:off x="421164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Łącznik prosty 23"/>
          <p:cNvSpPr/>
          <p:nvPr/>
        </p:nvSpPr>
        <p:spPr>
          <a:xfrm flipH="1">
            <a:off x="5003640" y="1617840"/>
            <a:ext cx="6480" cy="1595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Elipsa 24"/>
          <p:cNvSpPr/>
          <p:nvPr/>
        </p:nvSpPr>
        <p:spPr>
          <a:xfrm>
            <a:off x="5003640" y="314172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Łącznik prosty 30"/>
          <p:cNvSpPr/>
          <p:nvPr/>
        </p:nvSpPr>
        <p:spPr>
          <a:xfrm flipV="1">
            <a:off x="5573880" y="1844640"/>
            <a:ext cx="6120" cy="1090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Elipsa 33"/>
          <p:cNvSpPr/>
          <p:nvPr/>
        </p:nvSpPr>
        <p:spPr>
          <a:xfrm>
            <a:off x="5533920" y="184464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Łącznik prosty 35"/>
          <p:cNvSpPr/>
          <p:nvPr/>
        </p:nvSpPr>
        <p:spPr>
          <a:xfrm flipV="1">
            <a:off x="3700440" y="1341360"/>
            <a:ext cx="7920" cy="209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36"/>
          <p:cNvSpPr/>
          <p:nvPr/>
        </p:nvSpPr>
        <p:spPr>
          <a:xfrm>
            <a:off x="3662280" y="1268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rostokąt 37"/>
          <p:cNvSpPr/>
          <p:nvPr/>
        </p:nvSpPr>
        <p:spPr>
          <a:xfrm>
            <a:off x="1246680" y="4438800"/>
            <a:ext cx="57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osi x są punk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rostokąt 3"/>
          <p:cNvSpPr/>
          <p:nvPr/>
        </p:nvSpPr>
        <p:spPr>
          <a:xfrm>
            <a:off x="1116000" y="189000"/>
            <a:ext cx="7128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Gill Sans MT"/>
              </a:rPr>
              <a:t>Uwaga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Punkty symetryczne względem osi x mają równe pierwsze współrzędne, a drugie współrzędne są liczbami przeciwnymi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, 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   i    P’=(x,-y)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Jeżeli punkt leży na osi x, to punktem symetrycznym do niego względem osi x jest ten sam pun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772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3900"/>
            </a:br>
            <a:r>
              <a:rPr b="1" lang="pl-PL" sz="3900" spc="-1" strike="noStrike">
                <a:solidFill>
                  <a:srgbClr val="572314"/>
                </a:solidFill>
                <a:latin typeface="Gill Sans MT"/>
              </a:rPr>
              <a:t>względem osi y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Prostokąt 2"/>
          <p:cNvSpPr/>
          <p:nvPr/>
        </p:nvSpPr>
        <p:spPr>
          <a:xfrm>
            <a:off x="1403280" y="2921040"/>
            <a:ext cx="7416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danie 2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osi 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http://www.cauchy.pl/matura/p_2006_11_p/5/uklad_wspolrzednych.gif"/>
          <p:cNvPicPr/>
          <p:nvPr/>
        </p:nvPicPr>
        <p:blipFill>
          <a:blip r:embed="rId1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607" name="Elipsa 5"/>
          <p:cNvSpPr/>
          <p:nvPr/>
        </p:nvSpPr>
        <p:spPr>
          <a:xfrm>
            <a:off x="4454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Elipsa 6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Elipsa 7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lipsa 8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Elipsa 9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Elipsa 10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Łącznik prosty 13"/>
          <p:cNvSpPr/>
          <p:nvPr/>
        </p:nvSpPr>
        <p:spPr>
          <a:xfrm>
            <a:off x="4211640" y="1089000"/>
            <a:ext cx="5508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lipsa 14"/>
          <p:cNvSpPr/>
          <p:nvPr/>
        </p:nvSpPr>
        <p:spPr>
          <a:xfrm>
            <a:off x="4716360" y="1052640"/>
            <a:ext cx="46080" cy="72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Łącznik prosty 15"/>
          <p:cNvSpPr/>
          <p:nvPr/>
        </p:nvSpPr>
        <p:spPr>
          <a:xfrm flipH="1">
            <a:off x="3995640" y="1617840"/>
            <a:ext cx="1014480" cy="10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Elipsa 16"/>
          <p:cNvSpPr/>
          <p:nvPr/>
        </p:nvSpPr>
        <p:spPr>
          <a:xfrm>
            <a:off x="3924360" y="155736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Łącznik prosty 17"/>
          <p:cNvSpPr/>
          <p:nvPr/>
        </p:nvSpPr>
        <p:spPr>
          <a:xfrm flipH="1">
            <a:off x="3425400" y="2935440"/>
            <a:ext cx="21481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Elipsa 18"/>
          <p:cNvSpPr/>
          <p:nvPr/>
        </p:nvSpPr>
        <p:spPr>
          <a:xfrm>
            <a:off x="3419640" y="2924280"/>
            <a:ext cx="4572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Łącznik prosty 19"/>
          <p:cNvSpPr/>
          <p:nvPr/>
        </p:nvSpPr>
        <p:spPr>
          <a:xfrm>
            <a:off x="3708360" y="3465360"/>
            <a:ext cx="1511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Elipsa 20"/>
          <p:cNvSpPr/>
          <p:nvPr/>
        </p:nvSpPr>
        <p:spPr>
          <a:xfrm>
            <a:off x="5219640" y="342900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Elipsa 29"/>
          <p:cNvSpPr/>
          <p:nvPr/>
        </p:nvSpPr>
        <p:spPr>
          <a:xfrm>
            <a:off x="2870280" y="234936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Łącznik prosty 30"/>
          <p:cNvSpPr/>
          <p:nvPr/>
        </p:nvSpPr>
        <p:spPr>
          <a:xfrm flipH="1">
            <a:off x="2987280" y="2421000"/>
            <a:ext cx="3073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rostokąt 33"/>
          <p:cNvSpPr/>
          <p:nvPr/>
        </p:nvSpPr>
        <p:spPr>
          <a:xfrm>
            <a:off x="1116000" y="43671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osi y są punk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rostokąt 34" descr=""/>
          <p:cNvPicPr/>
          <p:nvPr/>
        </p:nvPicPr>
        <p:blipFill>
          <a:blip r:embed="rId2"/>
          <a:stretch/>
        </p:blipFill>
        <p:spPr>
          <a:xfrm>
            <a:off x="2073240" y="4681440"/>
            <a:ext cx="4619520" cy="2060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8:39:31Z</dcterms:created>
  <dc:creator>temp</dc:creator>
  <dc:description/>
  <dc:language>en-US</dc:language>
  <cp:lastModifiedBy>Ania</cp:lastModifiedBy>
  <dcterms:modified xsi:type="dcterms:W3CDTF">2013-05-27T20:44:52Z</dcterms:modified>
  <cp:revision>58</cp:revision>
  <dc:subject/>
  <dc:title>Symetrie w układzie współrzędnych</dc:title>
</cp:coreProperties>
</file>